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1E2-A476-4CA4-ACBD-7A2043D7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BED-5EAB-49DE-B170-F7266F88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FDA-B7AB-4F3A-94EF-638FF2AE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456-988B-4A97-A768-0B910777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036E-19A1-4B35-BB15-09949E33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D35B-043F-4E88-900E-E36E610D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7037-8AFC-4A3E-B1DC-620254CA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039C-BF07-4C43-9E36-079C87DD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70C6-0224-4734-B12A-3DBA7EF2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C2ED-865B-437B-AE0A-E139E443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0458-8D83-470F-80EC-5BF7AE5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DC7-41B5-40B8-9197-95D71952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D15C-3BFA-433C-9A24-49FA8E9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7380-3CC8-4922-9393-19F05CDC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3A77-1394-45E3-B605-50BC95F6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BCFD-CB95-472C-907A-02A41557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A324-7DCD-4880-B999-B33A6B15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0FC-F1FB-4312-8FA1-936210C8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4AE-D790-428B-A4FD-A716682D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44B-8403-4D2E-92E5-4AA2F70B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34E-7394-4908-860A-0BFC1A3A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724-6876-49D8-BBC4-6DB0F738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832-D6CD-43A8-9C44-EC0A881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4AD-4D09-41DD-ABFA-8EBE002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A377-A2ED-4986-B1EA-FB03FE0CC9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59DA-6067-4145-9203-36A56FB92C7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10920" y="980640"/>
            <a:ext cx="64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六章 机关事业单位工勤人员的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公共法律素养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67280" y="4581360"/>
            <a:ext cx="2521080" cy="2001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2565360"/>
            <a:ext cx="6553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提示：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法律意识、法制观念是现代人必备的基本素质之一 ，机关事业单位的工作人员应该成为遵纪守法的模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413000"/>
            <a:ext cx="74167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二、如何理解社会主义民主与法治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三、宪法是国家的根本法，体现在哪些方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五、我国民法是如何划分自然人的民事行为能力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六、简述犯罪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七、如何确认行政诉讼的被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八、公、检、法三机关在直接受理刑事案件中是如何分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620640"/>
            <a:ext cx="52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思考题 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（部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28000" y="1628640"/>
            <a:ext cx="649440" cy="216000"/>
          </a:xfrm>
          <a:custGeom>
            <a:avLst/>
            <a:gdLst>
              <a:gd name="textAreaLeft" fmla="*/ 0 w 649440"/>
              <a:gd name="textAreaRight" fmla="*/ 649800 w 649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链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8000" y="2492280"/>
            <a:ext cx="719280" cy="217440"/>
          </a:xfrm>
          <a:custGeom>
            <a:avLst/>
            <a:gdLst>
              <a:gd name="textAreaLeft" fmla="*/ 0 w 719280"/>
              <a:gd name="textAreaRight" fmla="*/ 719640 w 7192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860640"/>
            <a:ext cx="863640" cy="2890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213000"/>
            <a:ext cx="792360" cy="289080"/>
          </a:xfrm>
          <a:custGeom>
            <a:avLst/>
            <a:gdLst>
              <a:gd name="textAreaLeft" fmla="*/ 0 w 792360"/>
              <a:gd name="textAreaRight" fmla="*/ 792720 w 792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59894890455666f0450a0" descr=""/>
          <p:cNvPicPr/>
          <p:nvPr/>
        </p:nvPicPr>
        <p:blipFill>
          <a:blip r:embed="rId1"/>
          <a:stretch/>
        </p:blipFill>
        <p:spPr>
          <a:xfrm>
            <a:off x="2987640" y="5805360"/>
            <a:ext cx="5638680" cy="67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67280" y="5445000"/>
            <a:ext cx="863640" cy="2890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9640" y="4365720"/>
            <a:ext cx="863640" cy="288720"/>
          </a:xfrm>
          <a:custGeom>
            <a:avLst/>
            <a:gdLst>
              <a:gd name="textAreaLeft" fmla="*/ 0 w 863640"/>
              <a:gd name="textAreaRight" fmla="*/ 864000 w 863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五、我国民法是如何划分自然人的</a:t>
            </a:r>
            <a:br>
              <a:rPr sz="2800"/>
            </a:b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                民事行为能力的？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P212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2133720"/>
            <a:ext cx="7127640" cy="4032000"/>
          </a:xfrm>
          <a:prstGeom prst="rect">
            <a:avLst/>
          </a:prstGeom>
          <a:noFill/>
          <a:ln w="12600">
            <a:solidFill>
              <a:srgbClr val="003300"/>
            </a:solidFill>
            <a:prstDash val="lg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要点： 我国《民法通则》对自然人的民事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能力分为三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*18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以上，理智健全的自然人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完全民事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；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6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以上不满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8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，以自己劳动收入为主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生活来源的人，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微软雅黑"/>
                <a:ea typeface="微软雅黑"/>
              </a:rPr>
              <a:t>视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完全民事行为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*10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以上的未成年人和不能完全辩认自己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的精神病人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限制民事行为能力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*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不满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的未成年人和完全不能辩认自己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的精神病人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无民事行为能力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623736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48974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六、简述犯罪构成    </a:t>
            </a:r>
            <a:r>
              <a:rPr b="0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P221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640" y="1413000"/>
            <a:ext cx="7369200" cy="4535280"/>
          </a:xfrm>
          <a:prstGeom prst="rect">
            <a:avLst/>
          </a:prstGeom>
          <a:noFill/>
          <a:ln w="12600">
            <a:solidFill>
              <a:srgbClr val="008000"/>
            </a:solidFill>
            <a:prstDash val="lg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要点：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我国刑法规定犯罪的构成必须具备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四个要件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犯罪客体 </a:t>
            </a:r>
            <a:r>
              <a:rPr b="0" lang="zh-CN" sz="2200" spc="-1" strike="noStrike">
                <a:solidFill>
                  <a:srgbClr val="0033cc"/>
                </a:solidFill>
                <a:latin typeface="微软雅黑"/>
                <a:ea typeface="微软雅黑"/>
              </a:rPr>
              <a:t>受法律保护而被犯罪行为人侵害的</a:t>
            </a:r>
            <a:r>
              <a:rPr b="0" lang="zh-CN" sz="22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社会关系</a:t>
            </a:r>
            <a:r>
              <a:rPr b="0" lang="zh-CN" sz="22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犯罪客观方面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犯罪行为及该行为造成的危害结果。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为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因果关系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犯罪的主体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实施犯罪行为，并依法应当承担法律责任的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微软雅黑"/>
                <a:ea typeface="微软雅黑"/>
              </a:rPr>
              <a:t>自然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和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微软雅黑"/>
                <a:ea typeface="微软雅黑"/>
              </a:rPr>
              <a:t>法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犯罪的主观方面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：实施犯罪行为时的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心理态度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故意或过失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--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罪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刑事责任年龄：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6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周岁以上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完全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刑事责任年龄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不满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4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周岁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无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刑事责任年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4~16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周岁： 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相对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刑事责任年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6165720"/>
            <a:ext cx="1008360" cy="36036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七、如何确认行政诉讼的被告？</a:t>
            </a:r>
            <a:r>
              <a:rPr b="0" lang="zh-CN" sz="4000" spc="-1" strike="noStrike">
                <a:solidFill>
                  <a:srgbClr val="9966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P228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7129440" cy="4824360"/>
          </a:xfrm>
          <a:prstGeom prst="rect">
            <a:avLst/>
          </a:prstGeom>
          <a:noFill/>
          <a:ln w="12600">
            <a:solidFill>
              <a:srgbClr val="008000"/>
            </a:solidFill>
            <a:prstDash val="lgDash"/>
            <a:miter/>
          </a:ln>
        </p:spPr>
        <p:txBody>
          <a:bodyPr lIns="90000" rIns="90000" tIns="46800" bIns="46800" anchor="ctr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60033"/>
                </a:solidFill>
                <a:latin typeface="微软雅黑"/>
                <a:ea typeface="微软雅黑"/>
              </a:rPr>
              <a:t>《行政诉讼法》规定行政诉讼的被告有五种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作出具体行政行为的行政机关是被告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复议案件，复议机关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维持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原具体行政行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的，作出原具体行政行为的行政机关是被告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复议机关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改变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原具体行政行为的，复议机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是被告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两个以上的行政机关作出同一具体行政行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的，共同作出具体行政行为的行政机关是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共同被告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5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由法律、法规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授权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的组织作出具体行政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为的，该组织为被告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6237360"/>
            <a:ext cx="1008000" cy="360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640" y="836280"/>
            <a:ext cx="655344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八、公、检、法三机关在直接受理刑事 </a:t>
            </a:r>
            <a:br>
              <a:rPr sz="2800"/>
            </a:b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          案件中是如何分工的？ 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P229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92000" y="1989000"/>
            <a:ext cx="7056360" cy="388800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要点：公、检、法三机关在直接受理刑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案件中的分工称为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“立案管辖”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根据我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《刑事诉讼法》第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18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务规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刑事案件的侦查，由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公安机关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进行，法律另有规定的除外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职务犯罪由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人民检察院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侦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自诉案件由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人民法院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直接受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6021360"/>
            <a:ext cx="1008360" cy="36036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0" y="2997360"/>
            <a:ext cx="5761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一节  法律的内涵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4076640"/>
            <a:ext cx="6840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一、一般含义：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由国家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创制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并由国家强制力保证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实施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，反映由物质生活条件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决定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的统治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阶级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意志的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行为规范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总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907920"/>
            <a:ext cx="5329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一节  法律的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二节  树立法制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三节  掌握法律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19280" y="1773360"/>
            <a:ext cx="7128000" cy="4249440"/>
          </a:xfrm>
          <a:prstGeom prst="rect">
            <a:avLst/>
          </a:prstGeom>
          <a:noFill/>
          <a:ln w="12600">
            <a:solidFill>
              <a:srgbClr val="800000"/>
            </a:solidFill>
            <a:prstDash val="lgDashDotDot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范畴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属政治上层建筑；道德属思想上层建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内容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强调权利与义务对等；道德侧重对他人和社会的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效力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有国家强制力保证实施；道德靠社会舆论和内心信念实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表现形式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由国家机关根据法律程序制定；道德潜移默化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调整范围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是阶级社会的产物；道德存在的时间更长；调整的范围亦更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836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法与道德的区别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124000" y="3500280"/>
            <a:ext cx="295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七大法律部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宪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民商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行政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经济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2492280"/>
            <a:ext cx="6838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三、我国的法律体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三个层次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根本法、实体法、程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4076640"/>
            <a:ext cx="316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社会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刑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7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诉讼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非诉讼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程序法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692280"/>
            <a:ext cx="71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二、我国社会主义法律的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我国社会主义法律的本质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1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 u="sng">
                <a:solidFill>
                  <a:srgbClr val="990000"/>
                </a:solidFill>
                <a:uFillTx/>
                <a:latin typeface="微软雅黑"/>
                <a:ea typeface="微软雅黑"/>
              </a:rPr>
              <a:t>政策和法律的区别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692280"/>
            <a:ext cx="6626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四、我国社会主义法律的运行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640" y="4149720"/>
            <a:ext cx="6337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06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五、建设社会主义法治国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法制与法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法制：国家的法律和制度，由国家政权派生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法治：相对民主而言，是治理国家的方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1628640"/>
            <a:ext cx="7272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法律制定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有法可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法律运行的前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法律遵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有法必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法律运行的关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法律执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公平正义，法律面前人人平等。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违法必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法律适用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法律规定的国家机关 （法院、检察院）    以国家名义按法定程序，独立行使司法权。  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执法必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63640" y="692280"/>
            <a:ext cx="6048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我国社会主义法治国家的基本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民民主专政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民当家作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保证社会主义生产关系，发展经济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马克思主义理论指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3357720"/>
            <a:ext cx="6335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建设社会主义法治国家的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立法，提高立法质量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司法，维护社会公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行政执法，推进依法行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执法监督，确保权利正确行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法制宣传，提高法律意识和法制观念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71996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二节  树立法制观念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1557360"/>
            <a:ext cx="7345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（一）民主与法治的关系：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民主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是前提和基础，决定法治的性质和内容；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法治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是民主的体现和保障，是实现民主的重要途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微软雅黑"/>
                <a:ea typeface="微软雅黑"/>
              </a:rPr>
              <a:t>发扬民主健全法制，必须两手抓两手都要硬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5640" y="3500280"/>
            <a:ext cx="74883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（二）法律面前人人平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立法平等：平等的权利、平等的义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守法平等：任何人都必须在宪法和法律的范围内活动，不允许有特殊公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适用法律平等：违法犯罪平等地受法律处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524720" y="335772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76360" y="765000"/>
            <a:ext cx="727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（三）权利和义务的观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-----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公民意识（权利和义务意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1989000"/>
            <a:ext cx="741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权利和义务</a:t>
            </a:r>
            <a:r>
              <a:rPr b="0" lang="zh-CN" sz="2400" spc="-1" strike="noStrike" u="sng">
                <a:solidFill>
                  <a:srgbClr val="990000"/>
                </a:solidFill>
                <a:uFillTx/>
                <a:latin typeface="微软雅黑"/>
                <a:ea typeface="微软雅黑"/>
              </a:rPr>
              <a:t>相对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公民既是权利主体，又是义务主体。公民在享受权利时，不能影响别人的权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权利和义务</a:t>
            </a:r>
            <a:r>
              <a:rPr b="0" lang="zh-CN" sz="2400" spc="-1" strike="noStrike" u="sng">
                <a:solidFill>
                  <a:srgbClr val="990000"/>
                </a:solidFill>
                <a:uFillTx/>
                <a:latin typeface="微软雅黑"/>
                <a:ea typeface="微软雅黑"/>
              </a:rPr>
              <a:t>对等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法律主张公平。没有义务的权利是特权；反之，只讲义务，则权利成为虚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权利和义务</a:t>
            </a:r>
            <a:r>
              <a:rPr b="0" lang="zh-CN" sz="2400" spc="-1" strike="noStrike" u="sng">
                <a:solidFill>
                  <a:srgbClr val="990000"/>
                </a:solidFill>
                <a:uFillTx/>
                <a:latin typeface="微软雅黑"/>
                <a:ea typeface="微软雅黑"/>
              </a:rPr>
              <a:t>互补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充分享受权利才能更好地履行义务。履行义务才能更加广泛、充分地保证权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16360" y="5300640"/>
            <a:ext cx="5688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979280" y="2565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微软雅黑"/>
              </a:rPr>
              <a:t>实体法：</a:t>
            </a:r>
            <a:r>
              <a:rPr b="0" lang="zh-CN" sz="2800" spc="-1" strike="noStrike">
                <a:solidFill>
                  <a:srgbClr val="0033cc"/>
                </a:solidFill>
                <a:latin typeface="幼圆"/>
                <a:ea typeface="微软雅黑"/>
              </a:rPr>
              <a:t>规定法律关系主体具体权利和义务的法律规范的总称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。 </a:t>
            </a: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692280"/>
            <a:ext cx="5759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三节  掌握法律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1557360"/>
            <a:ext cx="66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宪法：根本法  </a:t>
            </a:r>
            <a:r>
              <a:rPr b="0" lang="zh-CN" sz="2800" spc="-1" strike="noStrike">
                <a:solidFill>
                  <a:srgbClr val="0033cc"/>
                </a:solidFill>
                <a:latin typeface="幼圆"/>
                <a:ea typeface="微软雅黑"/>
              </a:rPr>
              <a:t>内容、效力、特别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3716280"/>
            <a:ext cx="6265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程序法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规定保证权利得以实现，义务得以履行的有关程序为内容的法律规范总称。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451640" y="2133720"/>
            <a:ext cx="1008000" cy="360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80000" y="4941720"/>
            <a:ext cx="1814400" cy="15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340000" y="5373720"/>
            <a:ext cx="3024000" cy="649080"/>
          </a:xfrm>
          <a:prstGeom prst="rect">
            <a:avLst/>
          </a:prstGeom>
          <a:solidFill>
            <a:srgbClr val="666699">
              <a:alpha val="62000"/>
            </a:srgbClr>
          </a:solidFill>
          <a:ln w="9360">
            <a:solidFill>
              <a:srgbClr val="8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法律制度解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8:34:33Z</dcterms:created>
  <dc:creator>llm</dc:creator>
  <dc:description/>
  <dc:language>en-US</dc:language>
  <cp:lastModifiedBy>User</cp:lastModifiedBy>
  <dcterms:modified xsi:type="dcterms:W3CDTF">2013-06-04T15:49:52Z</dcterms:modified>
  <cp:revision>77</cp:revision>
  <dc:subject/>
  <dc:title>PowerPoint 演示文稿</dc:title>
</cp:coreProperties>
</file>